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16 Обрада резултата мере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8785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вање 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да рецепата из области прашкова, раствора и      екстрактивних препара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ц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. Ксенија Вучић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 се раствори у води и загреје до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минута кључа након чега се склања са решо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ава се врелом водом ако је потре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: лакс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is acidi borici 4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rogenii peroxidi sol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,0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olu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Увече 2 капи у у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idi bo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конц. 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: 4 = 150 : X   X = 6 г (6,00 борне и 144,00 г во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200 = X:100        X =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drogenii perox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мо  50,00 - 0,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 перокс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г (0,3%) : 0,3г (30%) = 50 : X      X= 0,5г (30%); 49,5г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 антисеп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"/>
          <p:cNvSpPr/>
          <p:nvPr/>
        </p:nvSpPr>
        <p:spPr>
          <a:xfrm>
            <a:off x="900000" y="1484280"/>
            <a:ext cx="358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263240" y="1844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7124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9"/>
          <p:cNvSpPr/>
          <p:nvPr/>
        </p:nvSpPr>
        <p:spPr>
          <a:xfrm flipV="1">
            <a:off x="900000" y="227628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7"/>
          <p:cNvSpPr/>
          <p:nvPr/>
        </p:nvSpPr>
        <p:spPr>
          <a:xfrm flipV="1">
            <a:off x="1763640" y="1341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2138400" y="105264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г 30% водоник перок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3"/>
          <p:cNvSpPr/>
          <p:nvPr/>
        </p:nvSpPr>
        <p:spPr>
          <a:xfrm>
            <a:off x="1763640" y="2133720"/>
            <a:ext cx="358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2272320" y="2565360"/>
            <a:ext cx="13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9.7 г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г (0,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i             0,0012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i                       q.s.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pulvis D.t.d. N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ујутр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љен прашак за унутрашњу упот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доз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i  спд = 0,04; нпд = 0,1; ндд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2 &lt;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12 * 2 = 0,0024 &lt;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: 0,5 - 0,0012 = 0,4988 x 20 = 9,976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осемид: 0,0012 x 20 = 0,024 г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10 = 0,05 : x      x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Straight Arrow Connector 3"/>
          <p:cNvCxnSpPr/>
          <p:nvPr/>
        </p:nvCxnSpPr>
        <p:spPr>
          <a:xfrm flipV="1">
            <a:off x="2987280" y="5589000"/>
            <a:ext cx="36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Straight Arrow Connector 5"/>
          <p:cNvCxnSpPr/>
          <p:nvPr/>
        </p:nvCxnSpPr>
        <p:spPr>
          <a:xfrm>
            <a:off x="2916000" y="5876640"/>
            <a:ext cx="36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7"/>
          <p:cNvSpPr/>
          <p:nvPr/>
        </p:nvSpPr>
        <p:spPr>
          <a:xfrm>
            <a:off x="3432240" y="544500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5г лековите супста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426120" y="587700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45г лакт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125000"/>
            <a:ext cx="914400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 = 0,024 :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0,24г тритура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5"/>
          <p:cNvCxnSpPr/>
          <p:nvPr/>
        </p:nvCxnSpPr>
        <p:spPr>
          <a:xfrm>
            <a:off x="2700360" y="2421000"/>
            <a:ext cx="288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/>
          <p:nvPr/>
        </p:nvCxnSpPr>
        <p:spPr>
          <a:xfrm flipV="1">
            <a:off x="2700000" y="2133000"/>
            <a:ext cx="359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TextBox 12"/>
          <p:cNvSpPr/>
          <p:nvPr/>
        </p:nvSpPr>
        <p:spPr>
          <a:xfrm>
            <a:off x="3430080" y="206064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24г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210840" y="263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16г лакт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3480" y="3429000"/>
            <a:ext cx="913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 лакто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76 – 0,216 = 9,76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4 г тритурата + 9,76г лактозе = 10г : 20 = 0,5 г маса једног пр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1280" y="1052640"/>
            <a:ext cx="9072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Oxyphenoni bromidi 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erolei anisi          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rii citratis              2,80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e           ad 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pul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 кашичицу раствори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чаши воде, 2 пута дневно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љен прашак за унутрашњу упот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доз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xyphenoni bro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= 0,005 &lt; 0,006                            0,12 : 100 = x : 5      x  =  0,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д = 0,015 &gt; 0,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д= 0,05&gt; 0,006*2 = 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trii citr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 = 1,00 &gt; 0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8 : 100 = x : 5      x  =  0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etherolei an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= 0,1&gt; 0,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: 100 = x : 5       x = 0,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 : 43 капи  = 0,2 : x     x = 8,6 капи ~ 9 ка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уко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96,88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: бочица широког г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: спазмоли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 (0,30)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mycini sulfatis             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 (0,30)           40,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(0,30)                     50,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pul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посипати споља за зарастање 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рг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smuti subgall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конц. = 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25 : 10 = 100 : x       x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7 % &lt; 10 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mycini sulf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конц. = 0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25 : 0,25 = 100 : x           x = 0,25 % &lt; 0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inci oxy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Ф. = 4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: 100,25 = x : 100           x = 39,9 % &lt; 4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– адстригенс, антибио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cti Frangula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3/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i sulfatis         2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upi simplicis           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olu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3 пута по 1 кашич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за унутрашњу упот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ngula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 = 2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107,5 = x : 5     x = 0,14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gnesii sulf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=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: 107,5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: 5       x  = 0,11 &lt;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05264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у елермајеру широког гр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 се просеје кроз сито 3 и прелије са истом количином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 преостала количина воде до 100 г и загрева на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а се одржава постигнута темеп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уће се процеди допуни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охлади додај се остале компон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rupi simpli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arosi               6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a purificata       3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: 100 = X: 5          X = 3,2г сахарозе; 1,8г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senija</cp:lastModifiedBy>
  <dcterms:modified xsi:type="dcterms:W3CDTF">2019-08-03T17:24:44Z</dcterms:modified>
  <cp:revision>49</cp:revision>
  <dc:subject/>
  <dc:title>Slide 1</dc:title>
</cp:coreProperties>
</file>